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3438-FA8D-42FF-A262-867643241F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ABC1-CAC8-47BD-ABAC-95C5C5ADFF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BC8763-0A8F-4DA1-AFAC-848226D04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02660A-A648-4B95-9250-CB01CEC60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A1C05F-81C8-4D54-920A-82A62928E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38B5DD-53FF-460B-914D-7B2183D48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DEC42-C539-42A5-8DD1-5FBBBCB8D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41EA1-4FDD-4521-A3D3-ABB14C8CC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9E44C-0308-4519-868F-ACDBDCF6C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6B0AD-6D8C-408F-9129-6C6C31B3F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1BECA-851D-4A6C-B09A-2216BDD0D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BAA0F-CDBA-45B9-B86F-CE7EEB8C7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BC54A-81EB-4B13-9B88-0F062E7F6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838612-7BD9-442B-8EE4-94780084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1D531-6E75-4292-A815-4BFAEEF0E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88E94-908E-4A56-ADCF-A6F072851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44369-97C6-46BF-9EF5-E4BEB2495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A25EE-3774-47C4-BFE5-56ED0A9F5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A9845-94A2-4680-836E-D25486044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9AE34D-AAA0-4167-95E9-6498E74F8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B9C837-C695-4E4B-9B33-B78782A4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31D489-4342-4C59-A09B-B7B18B012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2C8CFC-92E2-45F3-B340-A29E009A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860E1A-E5ED-4AEE-905F-DE815E29E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A65255-42AF-43F1-8AE2-1B6A8F9D8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664DF2-4F84-4584-9B43-2B12232CE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317F-8EDC-4167-91EF-F2F339A47CF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9BEC-9CA9-4208-AA5C-7FF7F1B2323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steopathic.org/" TargetMode="External"/><Relationship Id="rId2" Type="http://schemas.openxmlformats.org/officeDocument/2006/relationships/hyperlink" Target="http://www.amtamassage.or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AM</a:t>
            </a:r>
            <a:br>
              <a:rPr sz="5400"/>
            </a:br>
            <a:r>
              <a:rPr b="1" lang="en-US" sz="5400" spc="-1" strike="noStrike">
                <a:solidFill>
                  <a:srgbClr val="e5e5ff"/>
                </a:solidFill>
                <a:latin typeface="Garamond"/>
              </a:rPr>
              <a:t>Resources for our</a:t>
            </a:r>
            <a:br>
              <a:rPr sz="5400"/>
            </a:br>
            <a:r>
              <a:rPr b="1" lang="en-US" sz="5400" spc="-1" strike="noStrike">
                <a:solidFill>
                  <a:srgbClr val="e5e5ff"/>
                </a:solidFill>
                <a:latin typeface="Garamond"/>
              </a:rPr>
              <a:t>Patient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ky Render, 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3,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come well-accepted treatment for acute pain and problems of the spine, including lower back pain and whiplash. Applications beyond that scope are not supported by current evidence, although there are ongoing studies into the usefulness of chiropractic for such problems as ear infections, dysmenorrhea, infant colic, migraine headaches, and other condi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pending on the cause and severity of the condition, options for treatment may include physical therapy, rest, medications, surgery, or chiropractic care. Chiropractic treatment carries none of the risks of surgical or pharmacologic treatment. The odds of an adverse outcome are extremely low.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has proven in several studies to be less expensive than many more traditional routes such as outpatient physical therapy. Relief from some neuromuscular problems is immediate, although a series of treatments is likely to be required to maintain the improve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What Is OM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steopathic manipulative treatment, or OMT, is hands-on care. It involves using the hands to diagnose, treat, and prevent illness or injury. Using OMT, your osteopathic physician (D.O.) will move your muscles, bones and fascia using techniques that involve stretching, gentle pressure and resist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sorts of injuries/illness can OMT treat?</a:t>
            </a:r>
            <a:br>
              <a:rPr sz="2800"/>
            </a:br>
            <a:r>
              <a:rPr b="0" lang="en-US" sz="2800" spc="-1" strike="noStrike">
                <a:solidFill>
                  <a:srgbClr val="ffffff"/>
                </a:solidFill>
                <a:latin typeface="Garamond"/>
              </a:rPr>
              <a:t>In 1999, a study released in the New England Journal of Medicine noted that OMT is not only an effective and low-cost form of treatment for low back pain but also a treatment that decreased the need for medications and surgery. In addition to being used to treat low back pain and musuloskeletal abnormalities, OMT can be used to treat asthma, carpal tunnel syndrome, menstrual pain, sinus disorders, migraines and much mo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OA, Journal of the American Osteopathic Association, is a great resource for the latest research and techniques in practi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those interested in learning manipulation, there are CME courses you can take.</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article printed about MD’s taking OMT cour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fer to our own D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clinic pro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 a huge advoc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 is good for so many reasons, everything from cancer to stress reduc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pic>
        <p:nvPicPr>
          <p:cNvPr id="149" name="Picture 7" descr="spa_massage.jpg"/>
          <p:cNvPicPr/>
          <p:nvPr/>
        </p:nvPicPr>
        <p:blipFill>
          <a:blip r:embed="rId1"/>
          <a:stretch/>
        </p:blipFill>
        <p:spPr>
          <a:xfrm>
            <a:off x="3124080" y="3276720"/>
            <a:ext cx="3029040" cy="29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ssage therapy popular among young and lower-income Americans</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nger age groups and lower-income Americans are the most likely to consider massage for stress and other health reasons.</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y-six percent of 18-24 year olds would consider massage to manage stres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ty-six percent of those earning less than $25,000 a year get massage for medical/health reasons; more than any other groups. </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s, we do have options for our patient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sure you tell your patients to check what insurance coverage the provider takes (many referrals have been made to providers that don’t take Medi-Ca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ality, this is an ongoing project to find resources…</a:t>
            </a:r>
            <a:endParaRPr b="0" lang="en-US" sz="2800" spc="-1" strike="noStrike">
              <a:solidFill>
                <a:srgbClr val="ffffff"/>
              </a:solidFill>
              <a:latin typeface="Garamond"/>
            </a:endParaRPr>
          </a:p>
        </p:txBody>
      </p:sp>
      <p:pic>
        <p:nvPicPr>
          <p:cNvPr id="155" name="Picture 5" descr="needle in hay stack.jpg"/>
          <p:cNvPicPr/>
          <p:nvPr/>
        </p:nvPicPr>
        <p:blipFill>
          <a:blip r:embed="rId1"/>
          <a:stretch/>
        </p:blipFill>
        <p:spPr>
          <a:xfrm>
            <a:off x="3048120" y="3556080"/>
            <a:ext cx="3095640" cy="33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erview</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ty Resources</a:t>
            </a:r>
            <a:endParaRPr b="0" lang="en-US" sz="3200" spc="-1" strike="noStrike">
              <a:solidFill>
                <a:srgbClr val="ffffff"/>
              </a:solidFill>
              <a:latin typeface="Garamond"/>
            </a:endParaRPr>
          </a:p>
        </p:txBody>
      </p:sp>
      <p:pic>
        <p:nvPicPr>
          <p:cNvPr id="111" name="Picture 3" descr="complementary medicine.bmp"/>
          <p:cNvPicPr/>
          <p:nvPr/>
        </p:nvPicPr>
        <p:blipFill>
          <a:blip r:embed="rId1"/>
          <a:stretch/>
        </p:blipFill>
        <p:spPr>
          <a:xfrm>
            <a:off x="4876920" y="1523880"/>
            <a:ext cx="366048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 Tzvieli—Monday afternoon clinic in Martinez</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elewa Furaha, Lac—Wednesday afternoon, RH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anne Fanucchi, Lac—Oasis Acupuncture and Herbs in Concord.  Wednesday 1-3pm, Thursdays 7-9pm: low cost community clini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a list available of oth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ain, there is a list and it is updated annually.</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can’t recommend anyone at this time, but I’m open to suggestions.</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a work in progress due to insurance issue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will take patients.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pefully coming to a CCRMC clinic near you…  </a:t>
            </a: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fortunately we don’t have good resources for our patients to receive massag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discounts at student massage schoo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 Holistic Institute (Teaching clinic in Emeryville)</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 Karen Burt, Joanne Fanucchi and many others for your help in pointing me in the right directio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medical-dictionary.thefreedictionary.com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osteopathic.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www.amtamassag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medicalacupunctur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Swint: Provider Relations, 925-313-9507</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Serene_Shore"/>
          <p:cNvPicPr/>
          <p:nvPr/>
        </p:nvPicPr>
        <p:blipFill>
          <a:blip r:embed="rId1"/>
          <a:stretch/>
        </p:blipFill>
        <p:spPr>
          <a:xfrm>
            <a:off x="0" y="0"/>
            <a:ext cx="9144000" cy="6858000"/>
          </a:xfrm>
          <a:prstGeom prst="rect">
            <a:avLst/>
          </a:prstGeom>
          <a:ln w="0">
            <a:noFill/>
          </a:ln>
        </p:spPr>
      </p:pic>
      <p:sp>
        <p:nvSpPr>
          <p:cNvPr id="165" name="Text Box 5"/>
          <p:cNvSpPr/>
          <p:nvPr/>
        </p:nvSpPr>
        <p:spPr>
          <a:xfrm>
            <a:off x="5243760" y="4952880"/>
            <a:ext cx="338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ank you!</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is CAM important?</a:t>
            </a:r>
            <a:endParaRPr b="1" lang="en-US" sz="4400" spc="-1" strike="noStrike">
              <a:solidFill>
                <a:srgbClr val="e5e5ff"/>
              </a:solidFill>
              <a:latin typeface="Garamond"/>
            </a:endParaRPr>
          </a:p>
        </p:txBody>
      </p:sp>
      <p:pic>
        <p:nvPicPr>
          <p:cNvPr id="113" name="Picture 4" descr="accupuncture1"/>
          <p:cNvPicPr/>
          <p:nvPr/>
        </p:nvPicPr>
        <p:blipFill>
          <a:blip r:embed="rId1"/>
          <a:stretch/>
        </p:blipFill>
        <p:spPr>
          <a:xfrm>
            <a:off x="228600" y="1447920"/>
            <a:ext cx="3247920" cy="2654280"/>
          </a:xfrm>
          <a:prstGeom prst="rect">
            <a:avLst/>
          </a:prstGeom>
          <a:ln w="0">
            <a:noFill/>
          </a:ln>
        </p:spPr>
      </p:pic>
      <p:pic>
        <p:nvPicPr>
          <p:cNvPr id="114" name="Picture 5" descr="chiropractor1"/>
          <p:cNvPicPr/>
          <p:nvPr/>
        </p:nvPicPr>
        <p:blipFill>
          <a:blip r:embed="rId2"/>
          <a:stretch/>
        </p:blipFill>
        <p:spPr>
          <a:xfrm>
            <a:off x="6400800" y="4114800"/>
            <a:ext cx="2266920" cy="2206800"/>
          </a:xfrm>
          <a:prstGeom prst="rect">
            <a:avLst/>
          </a:prstGeom>
          <a:ln w="0">
            <a:noFill/>
          </a:ln>
        </p:spPr>
      </p:pic>
      <p:pic>
        <p:nvPicPr>
          <p:cNvPr id="115" name="Picture 6" descr="osteopathy1"/>
          <p:cNvPicPr/>
          <p:nvPr/>
        </p:nvPicPr>
        <p:blipFill>
          <a:blip r:embed="rId3"/>
          <a:stretch/>
        </p:blipFill>
        <p:spPr>
          <a:xfrm>
            <a:off x="3962520" y="2819520"/>
            <a:ext cx="1904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Accupuncture</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is one of the main forms of treatment in traditional Chinese medicine. It involves the use of sharp, thin needles that are inserted in the body at very specific points. This process is believed to adjust and alter the body's energy flow into healthier patterns, and is used to treat a wide variety of illnesses and health condi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po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ld Health Organization (WHO) recommends acupuncture as an effective treatment for over forty medical probl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luding:  allergies, respiratory conditions, gastrointestinal disorders, gynecological problems, nervous conditions, and disorders of the eyes, nose and throat, and childhood illnesses, among others.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has been used in the treatment of alcoholism and substance abuse.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an effective and low-cost treatment for headaches and chronic pain, associated with problems like back injuries and arthritis. </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has also been used to supplement invasive Western treatments like chemotherapy and surgery.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generally most effective when used as prevention or before a health condition becomes acute, but it has been used to help patients suffering from cancer and AID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limited in treating conditions or traumas that require surgery or emergency care (such as for broken bon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igin of acupuncture is Chinese medici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ese medicine does not draw a sharp line, as Western medicine does, between mind and body. The Chinese system believes that emotions and mental states are every bit as influential on disease as purely physical mechanisms, and considers factors like work, environment, lifestyle and relationships as fundamental to the overall picture of a patient's heal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is one of the most popular alternative therapies currently available. Some would say it now qualifies as mainstream treatment as opposed to complementary medicine. Chiropractic treatment is covered by many insurance plans and in 2004, the U.S. Department of Veterans Affairs announced full inclusion of chiropractic care for veterans. </a:t>
            </a: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08:50Z</dcterms:created>
  <dc:creator> </dc:creator>
  <dc:description/>
  <dc:language>en-US</dc:language>
  <cp:lastModifiedBy>HCMARTINEZ</cp:lastModifiedBy>
  <dcterms:modified xsi:type="dcterms:W3CDTF">2009-02-03T20:06:49Z</dcterms:modified>
  <cp:revision>50</cp:revision>
  <dc:subject/>
  <dc:title>CAM Resources for your Patients</dc:title>
</cp:coreProperties>
</file>